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04-chi_mai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135-A68E-4A8E-B74F-FDB1E20D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E36-2855-4511-8AD1-B317A00C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648-2036-4C21-B8FA-4572E84F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2C5-1112-4623-A728-1640F2E4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2C6-3964-4F46-BC34-401D7962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BA0-12A9-41D8-BCE2-43C08DA2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150-B45B-45B2-B7D8-1093409D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0A1-1DDF-433B-B24A-B512A58D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BC2-783F-4620-BDDE-C9257DBD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CDF-A1CE-4D56-9193-D27D6715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EC3-7A53-4AD9-BD1E-CF521203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992-48B0-419A-8952-35204D36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1B34-085F-4C5B-BD00-9800F1D14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04-chi_mai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3657600"/>
            <a:ext cx="3124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omic Sans MS"/>
              </a:rPr>
              <a:t>Si tu p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omic Sans MS"/>
              <a:ea typeface="Comic Sans MS"/>
            </a:endParaRPr>
          </a:p>
        </p:txBody>
      </p:sp>
    </p:spTree>
  </p:cSld>
  <p:transition spd="slow" advTm="10000">
    <p:blinds dir="horz"/>
    <p:sndAc>
      <p:stSnd>
        <p:snd r:embed="rId4" name="04-chi_ma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867280" y="5486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tu peux accepter toutes les critiques sans jamais te rebiff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280" y="37944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tu peux endurer la grossièreté de certains gens sans jamais les corri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54100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tu peux faire face à la vie sans jamais mentir ou décevoir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1890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tu peux te détendre sans jamais prendre une goutte d'alcool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0440" y="571356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dire très honnêtement, du plus profond de ton cœur, que tu n'as aucun a priori envers les gens âgés, les différentes races, les religions ou les identités sexuell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0" y="68436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tu peux manger la même nourriture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aque jour et en être heureux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579744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aimer sans condition sans rien attendre en retour</a:t>
            </a:r>
            <a:r>
              <a:rPr b="1" lang="he-I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22384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é bien, mon ami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tu es PRESQUE aussi parfait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que ton CHIEN</a:t>
            </a:r>
            <a:r>
              <a:rPr b="1" lang="he-I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7772400" y="595008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n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47242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95680" y="4800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commencer ta journée sans caféin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5210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la terminer sans sédatif pour dormir,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05520" y="5791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être de bonne humeur, sachant ignorer tes maux et tes douleur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724280" y="54864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ne jamais te plaindre et ennuyer les autres avec tes problèm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43400" y="57913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comprendre quand ceux qui t'aiment sont trop occupés pour te donner de leur temp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8006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accepter qu'on te blâme pour une faute non commis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38680" y="38098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croire qu'on prendra soin de toi jusqu'à la fin de ta vi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4:53:32Z</dcterms:created>
  <dc:creator>Nini</dc:creator>
  <dc:description>zoupinette2@yahoo.fr</dc:description>
  <dc:language>en-US</dc:language>
  <cp:lastModifiedBy>--</cp:lastModifiedBy>
  <dcterms:modified xsi:type="dcterms:W3CDTF">2007-06-23T13:28:34Z</dcterms:modified>
  <cp:revision>20</cp:revision>
  <dc:subject/>
  <dc:title>Si tu peux</dc:title>
</cp:coreProperties>
</file>